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61B-63B5-4E96-B159-8655D6E5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869-7493-4298-A49E-C3E8E5D0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939-1FE0-464D-9023-E6611078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A0E-83D5-4B44-80D5-8DD4878B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75C-F503-426D-A2A0-CAFDF128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D13-AB88-4A40-BFE2-62643CC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DE2-8A75-4EAC-B00C-E3EABF87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D30-270D-4653-9FAD-ADB25F5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2BF-3728-4540-9440-2E534716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B33-424A-4300-8AAB-8C72763E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D4D-4C8D-43BA-8687-645B1CBD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371-16E2-402A-BB47-EE6EBDB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223A-DF68-4CAA-B00A-03408ECAE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lake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filmclub.org/assets/images/seasons/young-victoria-emily-blunt-monarchy-season-456.jpg"/>
          <p:cNvPicPr/>
          <p:nvPr/>
        </p:nvPicPr>
        <p:blipFill>
          <a:blip r:embed="rId1"/>
          <a:stretch/>
        </p:blipFill>
        <p:spPr>
          <a:xfrm>
            <a:off x="2057400" y="2438280"/>
            <a:ext cx="4343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2209680" y="2438280"/>
            <a:ext cx="47628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libcom.org/files/images/library/philosophy_0.jpg"/>
          <p:cNvPicPr/>
          <p:nvPr/>
        </p:nvPicPr>
        <p:blipFill>
          <a:blip r:embed="rId1"/>
          <a:stretch/>
        </p:blipFill>
        <p:spPr>
          <a:xfrm>
            <a:off x="533520" y="24382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upload.wikimedia.org/wikipedia/commons/thumb/5/5d/Peninsula_croatia.jpg/300px-Peninsula_croatia.jpg"/>
          <p:cNvPicPr/>
          <p:nvPr/>
        </p:nvPicPr>
        <p:blipFill>
          <a:blip r:embed="rId1"/>
          <a:stretch/>
        </p:blipFill>
        <p:spPr>
          <a:xfrm>
            <a:off x="609480" y="251460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1828800" y="2341440"/>
            <a:ext cx="468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t3.gstatic.com/images?q=tbn:ANd9GcR47UfDRt1I_FUmzoYmR7Gj9awPwSWPjcSDwaUne6EwutwccdcV"/>
          <p:cNvPicPr/>
          <p:nvPr/>
        </p:nvPicPr>
        <p:blipFill>
          <a:blip r:embed="rId1"/>
          <a:stretch/>
        </p:blipFill>
        <p:spPr>
          <a:xfrm>
            <a:off x="4038480" y="2006640"/>
            <a:ext cx="32004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t1.gstatic.com/images?q=tbn:ANd9GcQf-T391ZlQxJHWaLwfmBVBtTSzTW_8P5C7VdO7nAURLbZTAzd_SQ"/>
          <p:cNvPicPr/>
          <p:nvPr/>
        </p:nvPicPr>
        <p:blipFill>
          <a:blip r:embed="rId1"/>
          <a:stretch/>
        </p:blipFill>
        <p:spPr>
          <a:xfrm>
            <a:off x="838080" y="2819520"/>
            <a:ext cx="641988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1432080" y="774720"/>
            <a:ext cx="4663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 – 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1905120" y="2666880"/>
            <a:ext cx="3809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the Greeks meet and conduct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Agora of Athens"/>
          <p:cNvPicPr/>
          <p:nvPr/>
        </p:nvPicPr>
        <p:blipFill>
          <a:blip r:embed="rId1"/>
          <a:stretch/>
        </p:blipFill>
        <p:spPr>
          <a:xfrm>
            <a:off x="2819520" y="2133720"/>
            <a:ext cx="395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dodekanissaweb.gr/world/images/france3.jpg"/>
          <p:cNvPicPr/>
          <p:nvPr/>
        </p:nvPicPr>
        <p:blipFill>
          <a:blip r:embed="rId1"/>
          <a:stretch/>
        </p:blipFill>
        <p:spPr>
          <a:xfrm>
            <a:off x="2819520" y="29718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sib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1.gstatic.com/images?q=tbn:ANd9GcS1tvhL56dl08PEuH4rUvRKwW0nma8NXVFX9i1v-KHIUS-KXFaMJBo84YFy"/>
          <p:cNvPicPr/>
          <p:nvPr/>
        </p:nvPicPr>
        <p:blipFill>
          <a:blip r:embed="rId1"/>
          <a:stretch/>
        </p:blipFill>
        <p:spPr>
          <a:xfrm>
            <a:off x="3200400" y="2895480"/>
            <a:ext cx="17812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ushistoryimages.com/images/roanoke-colony/fullsize/roanoke-colony-2.jpg"/>
          <p:cNvPicPr/>
          <p:nvPr/>
        </p:nvPicPr>
        <p:blipFill>
          <a:blip r:embed="rId1"/>
          <a:stretch/>
        </p:blipFill>
        <p:spPr>
          <a:xfrm>
            <a:off x="1981080" y="3124080"/>
            <a:ext cx="4476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upload.wikimedia.org/wikipedia/commons/thumb/d/db/Suffrage_universel_1848.jpg/300px-Suffrage_universel_1848.jpg"/>
          <p:cNvPicPr/>
          <p:nvPr/>
        </p:nvPicPr>
        <p:blipFill>
          <a:blip r:embed="rId1"/>
          <a:stretch/>
        </p:blipFill>
        <p:spPr>
          <a:xfrm>
            <a:off x="1828800" y="28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co.galveston.tx.us/judgecriss/212th%20DC%20Pictures/jury2.jpg"/>
          <p:cNvPicPr/>
          <p:nvPr/>
        </p:nvPicPr>
        <p:blipFill>
          <a:blip r:embed="rId1"/>
          <a:stretch/>
        </p:blipFill>
        <p:spPr>
          <a:xfrm>
            <a:off x="2438280" y="3124080"/>
            <a:ext cx="40100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12:15Z</dcterms:modified>
  <cp:revision>91</cp:revision>
  <dc:subject/>
  <dc:title>Ancient Greece</dc:title>
</cp:coreProperties>
</file>